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90E85-0C3C-4903-A5B3-11BD00E3A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7BF36-CB69-41FB-9B32-AA17F57F1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05831-B0EA-4A04-96DA-F1F7C682C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8EA2A-20B5-430F-AB57-3096CAEB6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CD0FC-F54E-4B5F-9584-801F1E2E4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38EC4-EBB1-4622-93AF-E78B6F423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DF167-040F-4055-8E65-A01203DD3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D2BF4-F70B-40AF-A101-F66F4386F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19422-3DE0-4DEC-8BBF-3C3EBD9D7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3761C-8829-4D99-82A8-2CAF72888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3AE4A-5C4F-47FB-A8FC-EB9459E40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D3765-45E5-4CA4-85C3-772FA14E0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44B18-2581-4DB9-A6E2-07FDDB023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3B59D-35D8-4691-A6CB-53FBDB9E9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0C73E-0AA1-41A5-B873-2096BCB89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24F74-FD3E-48F5-85DF-72F154836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CFFCF-423B-4A2B-8976-22AF8CC06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65AA9A-C642-4C01-ACC1-4C7FD9750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B9D6D3-01A4-4A4E-B311-46009F276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9DBB0D-35F9-4F33-ABC7-1416ACD70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1D2B07-5BBE-4658-8E65-19DA87AD1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3BAB7F-23DA-40A5-8874-4E622719A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38341-F85C-4BB7-9DC0-E99D21C69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6B259B-EAC4-4A16-8B65-702B543FC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C0DCCA-22BB-4AA1-BC31-68BCB1B86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57A3A9-F0E2-47AF-B974-0BC4DEC89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2A60F3-7F64-4B56-8988-4A50CC3A8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B51904-9942-4B41-B6E3-FC22B1248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43231E-FB77-48E0-892B-8A818E91F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016C4A-66F2-4CC6-9749-F10EF03B2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DB5C17-DE8A-40FF-BEA7-A7C138B38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1FB99B-F5BF-47D1-98DE-5BBD5FD6E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7F9791-86CB-457D-8BE8-56F19FD94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B983D-F265-4368-96AB-FA286A4C5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2D2CF8-B8EB-4448-AD15-77DC22968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457621-2762-42CA-ADA5-C968F707E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034C2F-4112-47BA-887F-645BFEF0E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462BAA-6408-454D-BD58-BC8658C89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8E4504-3A36-48A6-90C2-D84BD022A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9EF711-9089-42A7-BD92-693B3E225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5E0395-F191-443B-8E7D-F0892FEA9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88C65B-F1E0-4406-A11D-05E556E32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C190BE-16A9-49DD-BACD-776694C0A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31C0A-DB4B-4074-8D3B-DE745206C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E2479-9121-40A3-9922-AB0677D25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615F3-7645-4AB8-9FA4-9038D4CBA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AE8AA-5E0C-40D7-91C1-95871B255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35919-0529-4958-B9B2-8A72DEA1D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0A898-BC16-4AA9-85AE-DCAE989E7FDB}" type="slidenum">
              <a:rPr b="0" lang="pt-PT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1B98F-5828-4A89-AF6C-10DCBA757558}" type="slidenum">
              <a:rPr b="0" lang="pt-PT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36844-FFC2-48F1-B4B8-BF175A140FB3}" type="slidenum">
              <a:rPr b="0" lang="pt-PT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7B602-2DF4-4030-A058-2E371599DA7E}" type="slidenum">
              <a:rPr b="0" lang="pt-PT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Rectangle 3" descr=""/>
          <p:cNvPicPr/>
          <p:nvPr/>
        </p:nvPicPr>
        <p:blipFill>
          <a:blip r:embed="rId1"/>
          <a:stretch/>
        </p:blipFill>
        <p:spPr>
          <a:xfrm>
            <a:off x="2633760" y="-6480"/>
            <a:ext cx="3681360" cy="142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ffffff"/>
                </a:solidFill>
                <a:latin typeface="Constantia"/>
              </a:rPr>
              <a:t>The capital city of sweden is stockholm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7" name="Rectangle 3" descr=""/>
          <p:cNvPicPr/>
          <p:nvPr/>
        </p:nvPicPr>
        <p:blipFill>
          <a:blip r:embed="rId1"/>
          <a:stretch/>
        </p:blipFill>
        <p:spPr>
          <a:xfrm>
            <a:off x="2475000" y="42840"/>
            <a:ext cx="4486320" cy="11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With 450,295 kilometers ², Sweden is the third largest country in the European Union in terms of area and has a total population of about 9.2 million inhabitants. Sweden has a low population density, with about 21 inhabitants per square kilometer, but with a considerably greater density in the southern half of the country. About 85% of the population lives in urban areas and </a:t>
            </a:r>
            <a:r>
              <a:rPr b="0" lang="pt-PT" sz="18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it is expected that this number will gradually increase with urbanization that is still ongoing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9" name="Rectangle 3" descr=""/>
          <p:cNvPicPr/>
          <p:nvPr/>
        </p:nvPicPr>
        <p:blipFill>
          <a:blip r:embed="rId1"/>
          <a:stretch/>
        </p:blipFill>
        <p:spPr>
          <a:xfrm>
            <a:off x="2054160" y="-49320"/>
            <a:ext cx="4900680" cy="157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onstantia"/>
              </a:rPr>
              <a:t>Population (2009 est.):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9,059,651 (growth rate: 0.1%); birth rate: 10.1/1000; infant mortality rate: 2.7/1000; life expectancy: 80.8; density per sq mi: 57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1" name="Rectangle 3" descr=""/>
          <p:cNvPicPr/>
          <p:nvPr/>
        </p:nvPicPr>
        <p:blipFill>
          <a:blip r:embed="rId1"/>
          <a:stretch/>
        </p:blipFill>
        <p:spPr>
          <a:xfrm>
            <a:off x="2120760" y="165240"/>
            <a:ext cx="5005440" cy="157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Rectangle 3" descr=""/>
          <p:cNvPicPr/>
          <p:nvPr/>
        </p:nvPicPr>
        <p:blipFill>
          <a:blip r:embed="rId1"/>
          <a:stretch/>
        </p:blipFill>
        <p:spPr>
          <a:xfrm>
            <a:off x="2554200" y="-549360"/>
            <a:ext cx="4498920" cy="1579680"/>
          </a:xfrm>
          <a:prstGeom prst="rect">
            <a:avLst/>
          </a:prstGeom>
          <a:ln w="0">
            <a:noFill/>
          </a:ln>
        </p:spPr>
      </p:pic>
      <p:sp>
        <p:nvSpPr>
          <p:cNvPr id="203" name="TextBox 4"/>
          <p:cNvSpPr/>
          <p:nvPr/>
        </p:nvSpPr>
        <p:spPr>
          <a:xfrm>
            <a:off x="428760" y="3143160"/>
            <a:ext cx="7143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Constantia"/>
              </a:rPr>
              <a:t>Swedis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530280" y="270504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ffffff"/>
                </a:solidFill>
                <a:latin typeface="Constantia"/>
              </a:rPr>
              <a:t>We can get there by plain and by bo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5" name="Rectangle 3" descr=""/>
          <p:cNvPicPr/>
          <p:nvPr/>
        </p:nvPicPr>
        <p:blipFill>
          <a:blip r:embed="rId1"/>
          <a:stretch/>
        </p:blipFill>
        <p:spPr>
          <a:xfrm>
            <a:off x="1432080" y="-262080"/>
            <a:ext cx="6651360" cy="157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ffffff"/>
                </a:solidFill>
                <a:latin typeface="Constantia"/>
              </a:rPr>
              <a:t>The capital city is a very beautiful place to see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7" name="Rectangle 3" descr=""/>
          <p:cNvPicPr/>
          <p:nvPr/>
        </p:nvPicPr>
        <p:blipFill>
          <a:blip r:embed="rId1"/>
          <a:stretch/>
        </p:blipFill>
        <p:spPr>
          <a:xfrm>
            <a:off x="1639800" y="-189000"/>
            <a:ext cx="5730840" cy="157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Rectangle 3" descr=""/>
          <p:cNvPicPr/>
          <p:nvPr/>
        </p:nvPicPr>
        <p:blipFill>
          <a:blip r:embed="rId1"/>
          <a:stretch/>
        </p:blipFill>
        <p:spPr>
          <a:xfrm>
            <a:off x="2335320" y="-189000"/>
            <a:ext cx="3705120" cy="157968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2" descr=""/>
          <p:cNvPicPr/>
          <p:nvPr/>
        </p:nvPicPr>
        <p:blipFill>
          <a:blip r:embed="rId2"/>
          <a:stretch/>
        </p:blipFill>
        <p:spPr>
          <a:xfrm>
            <a:off x="142920" y="1571760"/>
            <a:ext cx="4286160" cy="271440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3" descr=""/>
          <p:cNvPicPr/>
          <p:nvPr/>
        </p:nvPicPr>
        <p:blipFill>
          <a:blip r:embed="rId3"/>
          <a:stretch/>
        </p:blipFill>
        <p:spPr>
          <a:xfrm>
            <a:off x="5357880" y="1428840"/>
            <a:ext cx="3214800" cy="42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3T12:11:12Z</dcterms:created>
  <dc:creator>Ruizytuh</dc:creator>
  <dc:description/>
  <dc:language>en-US</dc:language>
  <cp:lastModifiedBy>Ruizytuh</cp:lastModifiedBy>
  <dcterms:modified xsi:type="dcterms:W3CDTF">2009-12-09T11:26:00Z</dcterms:modified>
  <cp:revision>4</cp:revision>
  <dc:subject/>
  <dc:title>Slide 1</dc:title>
</cp:coreProperties>
</file>